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E14-FA3D-447A-99BB-B6B8DE7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E2B-4971-4A26-BEDC-3D71BEC8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62BE0-E0F0-49A1-9620-DBE533F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91A26-7D0A-405E-9F57-2E605B28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FAA5F-3F8B-4023-852D-C07CF27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2DEDC-78B5-42F6-A40E-27F4709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7BA97-BEDD-490C-8093-5CF0DE09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DA5D-06FF-4EA0-83A3-A36AD8F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1C8DA-2DFA-4D70-A637-3FBC936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1FE0-AEE6-4CFE-80CB-5627AA58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B48D-F80B-47A7-9AE7-529B94AC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E5D10-00EC-4832-A00E-21B94123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B05-B001-43FB-9F4B-18E6DE74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36653-32A9-4B5F-9B1C-8115A30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F92D-73A3-4F3A-995B-85A9767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35607-D604-43D8-BEF3-4A861A4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02B1C-11FA-42C6-81B7-072CF4F8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693DA-2EEE-429B-9B75-B6822A3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4D2DC-A306-4126-B88D-59E5D9A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EB18-F2B5-4041-AF66-C964E91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BA361-D7C5-48E4-B009-7C1B7CB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B29D8-C9A7-4308-979B-3C8B91E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C0CF-A74E-412D-99E9-DA022146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E9F-A41C-49C4-9D2A-8FE31CCD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CAC79-E858-49AE-B1F0-D093DF85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F2F9-851F-4844-8DB4-0EBEBBBC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611E0-1A4C-4073-A8E4-6749BD99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09BBB-F819-424F-9D67-E951EBF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E87E2-E8D0-4B7E-B2CB-B05B7B8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CC228-9F86-45E9-AEBA-56BA7C8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DDDFA-5F68-4A71-B615-3D36C1E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25E6-6492-432C-A37D-613FA33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66A7-68F8-48C6-A2C3-418A0AD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B11B-5D47-4104-A194-20934DCB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583D-EEBD-4D27-8DCD-86C172FE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FB842-2F10-411A-ADD1-2EDA434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16DC6-2DA7-497E-91DA-0550B10C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45AA8-C5F6-44FF-9DBC-7D1901C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B6FB4-1080-41AF-A37C-B4B87528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1A43-F44E-4691-9550-24FF6FC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559A4-3933-46FA-BEF3-C9EBAB35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31B69-A767-41F2-82A9-EF0764E5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5F747-2A77-4F59-9975-FBE01401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29FE5-40BF-4E8B-828C-BC1638A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C0A4-BF88-4637-9FE3-15969A2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6A89-AEC4-4021-8364-F23248B1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0B8D1-CBA0-49B5-A445-02661E2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CF864-8A54-481A-AD75-FABE57A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C06C7-3F5D-4915-AD58-DE84E8D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5FB72-80AF-486D-B28F-BF8825C1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AA8EE-3F8F-45B7-A094-BB60B807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96475-C50E-4328-9622-6A09CB53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78E33-977E-4318-B21E-CE91A071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0DED7-7024-4257-B82C-7E2F03B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014C9-9EA4-4FC7-8189-ABCC0AE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EB522-9611-48C4-B2D1-D701647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1B9-3216-479C-9BA8-D16D3FDB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7B87D-E99E-4846-950F-83C3B16A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FFDFE-F97B-48C0-BB2C-9A74245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4C47C-216B-4520-AFBA-F0E780F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E26AC-8CCD-4E91-A672-78A2EDD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1F50D-4869-4481-91AD-A2586A7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19FDD-57DA-41D1-B1A7-EC9DB144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27584-DE60-4CB4-B45F-B481480E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575CD-0A98-4A57-864D-9BE93000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D06C2-7928-4E6D-80F1-552C417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FAA0C-8AE7-4E8C-8AA4-4B09493C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AD07-2FE2-4FE3-AB90-B61173F1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61B07-25B1-4C8C-8B4C-2D1D909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E75C1-DF4B-41F5-A6C8-7618F78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6B76F-7511-476D-9254-F4E25CE6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C1E5D-C126-4B4F-85D4-77A7CCF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0B626-39F0-4507-972E-DEB997A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6639B-EB5C-475B-9DB0-534B8FE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FF310-F49E-4439-BCED-7EA0995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EE954-574F-4561-A2DE-7F095B5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2ED9F-01CE-44EA-83F6-81484E84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B958F-0A56-4FC1-84A6-624A6177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209-7B79-4829-8DA6-4BC7F03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49BB6-B96E-4415-A40A-8BF6279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55110-0B27-4041-B0C7-CF82E98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4A8C2-2A60-4828-AD9E-6DE66852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9833D-41B1-4E9F-837F-D5E757B3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D5DB6-3FA3-439C-82D0-7E2CF9B4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4F7F7-210B-494A-9282-70F9B16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3C52B-F5D5-4BB7-A1D2-5107BA0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8B802-D847-4343-B0BA-45523C4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44A9A-D7EB-4B8A-B7F2-4214658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B6C76-74D1-4936-A33C-61D0D374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3565-027B-4B98-B1D2-A30021E8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67B81-E54B-4416-B907-32872F4C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F8B40-1569-4489-AD17-9A09127B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DBCEE-6AD0-482B-AB00-C90F03B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E5BC4-DE40-4154-9EE2-C18F57D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4D59E-B206-49DE-9B6E-0BE6EEC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336D7-80B3-44DD-B9AE-33D3F2D3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187BF-F0B1-407F-97D7-01B07FBD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A9AA1-0FE6-43CB-8224-D441113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19DD0-9AB0-4E2A-B825-0104C2F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95C8D-A04E-4410-B11A-CAC4BB8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634B-50BB-489A-AD9B-ABCB9C1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4FCE2-BB84-4F0C-AC10-A6C3376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B46B5-8792-4E87-952B-DC18A676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D6EA1-CF57-49F6-9792-9428CDE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A3F3F-6E46-4F15-B90B-984E0F01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1FCE4-5549-4FE1-A0EB-7366458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8290F-FF46-4802-8F69-A1D434C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F1A1D-9740-4152-9C4C-6D86570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F0F21-B0ED-4AE1-92A3-309F1E9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15C23-43CD-423D-92CA-EEC717EF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BEDB0-DCEC-4E68-A368-7210F6D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E53-13DD-46CB-9111-8B503653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349A-C5A7-4BB9-AC9B-B7E0591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24196-08D6-42A4-A545-7D415A0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A1D50-308F-4DAE-81E3-8CC3EA7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36399-90CF-49B3-8706-DD395BD4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9C739-6218-4FFB-9B1D-233295FF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65410-9FDC-47F5-AEA0-70D1A54C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EC485-7C8A-4C05-BDED-18568F8A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25097-AA52-46F2-8F38-CDFDC6E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A646A-9970-42B9-89A0-5E7F4DF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D75D5-C527-43CF-9A72-FA85448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D8703-51A7-4913-8289-0C09B5E0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E93-8828-4645-B68B-244192F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16EA0-A597-4898-899C-B42DF08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6B664-1022-4276-8506-1E0E532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0669A-5CAA-46A5-A206-F1A52CF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D7A1E-BF94-46E7-B331-E19DDD1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F0AA3-15D0-442A-B78C-9AA03E92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8BC9F-4D51-4FAE-845D-AD9134C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3B599-CBB4-421C-9017-0F46600B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D70C1-E3BE-4D0B-8229-38E6E1C7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C3229-5307-4606-97EA-3FFABCED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F84FC-8B3D-444C-AB3E-F5A5170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E499-6BD0-4708-9D19-33C9844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AE0AB-2B83-4BA2-A1B4-C042BC6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D9C8E-EB01-4AB7-9FE0-C85BCA8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0C740-C5E4-4248-9809-B76FA54A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C2D30-509C-4459-8C17-577C4DB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EC1A1-F896-4C87-AC38-E786135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0131C-6FF8-45AE-8DCE-4A8EB48E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1B3CC-398F-4320-99CC-DEF64AC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ACC2B-C48C-4648-898C-A6502B1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58EA1-015D-4A3D-AAF8-2177D61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F906B-FF01-4F15-8325-C8394D39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D1FB-E3CC-43F3-8EC3-5E12B35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BD31C-7905-4340-9099-A362AE3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FD7C6-01B0-4773-B513-481A47C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F333E-7DC7-424C-8F5A-0FA99C5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5405D-0F03-4DE2-8B92-CF8742D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D2613-A195-4761-B098-BB32D24F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11F1D-E6E7-4C7C-8BB2-E47ACE3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FC483-E0FC-47A0-919C-7D1AD1C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9640B-7CAB-4B41-BE03-FA8DBEC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4BC97-F4A8-4094-B90E-017A38E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9072C6-FCA9-4A9E-A990-10CD59E6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05AA-8895-421D-98E4-8A2DF08D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F6EE3-44AD-4949-ABD3-03A2FC3B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FDF76-A9EC-4C1E-92DB-43C9E00A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5FDD9-F1E5-4B1B-9F53-42184B39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2CB3E-5C55-4437-997F-F6FFC73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DAFDF-185F-4CB3-A1A2-A62BED3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49488-8E15-4A32-B91B-A3CE1F6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0686F-545D-4F62-82B7-C8C17811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21B81-5982-4D2A-8F41-5ABDFC0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3E1D9-5829-49E8-9271-B315BDE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AAE14-CFC3-4312-BC75-64529C1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9B44-B1CD-4D21-81D5-A83DF5CA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12F80-3062-413A-AF4C-9A07A03E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0097E-46E2-4E81-98F0-8A9B3049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FE20F-C95E-4E38-A762-544CFC4F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471DC-6D3A-4281-B7F3-9ED3FAC1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D0117-F1E6-47F6-B8B8-38708F2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C49DC-A3D0-47F9-89C1-65D8727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E98FC2-2675-489E-8BAA-DDF87BB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AA0B0-37D4-47B8-BAE8-0444830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20415-0DEB-49A5-9CE8-3C87537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6F22D-61FE-4707-934B-1D4C3CB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5E73-5258-4426-82DB-3229D7FE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72892-C197-4742-83BA-35970B7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1DC60-C33A-417B-AE86-D7F3BEC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C693FE-6DB6-4C63-BF1C-29A61D9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443C9-E72A-43B8-A300-F3591A73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DB548-F148-4F49-8F44-71250641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ECB9C-4545-4965-9B0F-607E544F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3E006B-E818-4EB7-BF2B-C7B4E39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9B255-90DE-44FA-9266-3C9612C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80B00-E461-433C-B2CC-158A8EA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729B22-A8E0-4206-815D-24919F7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F26A-BA69-41CC-B60E-2F62540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9FC4D-D77E-44C8-8DC7-A2CEF97B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4615B-C568-43EF-B89C-9F2ED47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439BF7-46E5-46E4-8A2A-8D64AD0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6A1E99-2951-4731-83DF-614CB37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793A4-1FA4-4C41-800A-40FF71B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2D4CCE-6FA7-46A6-85DB-DB3B8A7E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3094C1-9290-4D0E-95B0-763AA76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1713-2CF2-4670-A54F-9EAEEA43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68D4-0F45-4BC3-A849-9787E12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9F4-D1C3-40DE-A6B7-3820481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71FD-8B72-4956-911D-EDAE027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0591-62EF-424D-8D5F-AA12943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4555-0A94-4AEB-9953-A104AF2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F561-DB52-46F6-BCD6-12E2B20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2B75-8EC8-48DB-9D7F-E3F0095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3CA0-6548-4096-B8AB-FA9B2D1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3378-E5A5-4D50-B9E3-3E525D4C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B174-005C-4F67-8341-8E2F05BB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91F5-7951-40C3-AB11-FFACE2C4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91AB-279F-4081-968D-177E2764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4F8-208F-418D-BF69-C668B03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DFAB-512C-4EB3-9A52-CFFC59B2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06B8-F3FA-4D81-9B65-A732ABB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F5D1-A784-4E4A-B97D-024C3F0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C190-DDDC-4FBF-A46A-A590E01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E4D2-141F-47FA-8F3E-61C6182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B42E-8BC0-483F-A246-0DAEE3C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970B-B87D-4723-91C3-AB5B8F5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F8CD-F429-4CB8-9709-51D08048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D91F-C1D4-4870-9C2A-496880D2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BEC5-1F64-40F8-BFC5-EB085FAA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65E-7BE6-48F9-9553-5CA2298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78F4-275C-4A53-92FA-AB80B80A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5765-7135-4F55-8A36-BE86B96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00A1-381C-451E-A265-A20A9C7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A5D9-0A10-479A-8D6E-9920151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D6F6-B870-4927-8A55-2F9F1FD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F6177-77E3-40E3-BA24-46E3CD7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810F5-B14A-408F-B6DE-7F455E0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F662-70F9-4E71-A550-D6210F9F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DD56-4EFE-4EB2-B0FE-EA7D1CB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F5FD-2B93-4E51-87F5-60999635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E88-3778-4BC6-B155-A0698598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C36B-11E7-479C-BA4D-DB3A6FB4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CED0-59D7-498D-9183-1C9C1CBD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8908-E835-485D-A55F-2BBC6DB5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0EF2-5EB2-48FE-9324-0E179FB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7C13-83A3-40CB-A4F7-2F42B3BD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06C8-BFA9-4618-93CB-C26DA0A0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5DD6E-63F3-4A6E-A3D2-0790C132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A2D2-6945-4A05-B271-1D38CBA4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05BC-0230-4AFC-87AE-4FE635C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CB3B-101C-4576-8E5E-451E9AB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F1C-1751-44D3-B12B-56B59CF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9DB7-35B8-447C-81EA-579820E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47B1-939A-4621-979F-068AE807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61F4-F16D-4305-B9AB-7AD8A40B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C844-B40F-4D7E-A8EE-726D2E25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27EA-9735-49F2-9CC3-7D6B0DA2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C8A6F-7B77-4F80-B544-8F75861E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FBD82-3AB5-4217-A62B-9F05A94C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3D71-6602-4785-9229-5438998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7950-85A6-4A68-BFB5-2FCCE44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4B61E-6A5E-4CA0-A4D7-67D961D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891-A024-4CE4-A4F8-688FE54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4FF0-85D2-4936-A6BD-01C08F9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A42B-4AD9-4E82-A101-6E96E0D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72A8-A64F-48EE-B656-F413946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B479-DB6B-4868-99F8-B061B6C9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3AEE-799E-4CA1-B543-EE6AC3BF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B840-6717-4C4D-9197-C9984072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01F96-D7B1-4158-B9DF-3FC0038B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5C98-5ACD-4108-A471-8DF15E8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212D-E817-40A6-9F69-18095A0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464C-3DDD-481E-BDCB-36C9021A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760-3010-41FB-9530-F7C8A25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6D13-120B-465D-9417-82488F6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157E-7CB7-496C-82E1-505DD96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836EE-E426-479B-82B8-6C7FD05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69DFF-4171-48CF-A2A8-AF3CD29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5E5F-226B-4C38-A667-670C762A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A41B-A765-4EFC-A40D-CB6C1F44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F7D9-730D-49C9-88F3-3F213C25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ABE2-7BFE-46C5-9020-2371452E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C0F52-35F3-4B46-9E93-95CED137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BE1EF-F05B-42AC-BF22-4D9372FE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835-1F19-4DF2-9E40-36AF4D9E00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B0F-F06C-46DE-BD60-A53F4F7FD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3EC-2CE7-49E7-A6CC-2CD3E98DC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0AC-CC95-4625-80D1-A4ADEA35B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4F9-F219-4A71-9576-6C6D7595A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6FAF-2180-4F31-BB0B-60E73EF23A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F77-AF9F-4D7F-8F83-249AC9DCB8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F055-E895-4CDB-B499-250E6D677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64DF-5325-41CD-AE65-9AC4ADED0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1B5-34FE-47AE-9357-F65D8C871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C8EC-DA8F-4837-B1B6-571E8C1B1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CF82-898B-45C6-8049-9D9017C9A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7831-8F40-4DDD-B9F3-F30068E4D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0F8-34DF-41D5-959D-458097FCF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A20-31C5-4CB1-AFE6-8F1F2DE29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3014-D4E2-4F80-A7AF-65856524F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E75-1CF0-4935-BB99-C3ECFA545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CB2-779F-403D-9F70-64C349AF2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08B-DA12-4E51-B376-BF42DE729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1A7-43A4-4264-859A-5BAF29EA6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829-BB6D-4B45-880F-E8BA4C805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6DC4-1C62-472D-91E2-2BF1000B9F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5A4E-A761-4AB9-A807-69871E44A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A06-6D63-4A29-9A6D-F6D35C0AD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CAAA-4630-47DA-9F7A-F341B17C2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709-C45C-4B47-8435-E2A591095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ED6-5B78-4769-9126-3D631CC78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7B2-39F3-4AF0-BB6E-4413583F8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57F-AB99-4C0A-9713-8FB048C86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3B7-7432-41C4-A04C-2684A18B7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CAEA-2503-4158-AD66-53C0F5F95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856-67C2-48D8-B032-8F5A9E08F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BA7F-29F7-465B-8F69-3BE80E15E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CC4C-511E-4271-B074-4AB8C09596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6D4-7CDE-4F09-887F-97E7C559B3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B488-35CB-495F-A00A-CA5D9001C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8BF4-D176-4EF9-8906-C9F8C0B1BD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C470-CDC9-41A6-9810-C590D8155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636F-4CF4-4587-80D9-3F5B18E53F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ADD-90A0-4FE9-B373-8A3D7924E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BE9-15B9-4A8E-AD9B-72017136A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D9C-7869-4F31-8EC1-5B4E5B53A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558720" y="2952720"/>
            <a:ext cx="802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图片 1" descr=""/>
          <p:cNvPicPr/>
          <p:nvPr/>
        </p:nvPicPr>
        <p:blipFill>
          <a:blip r:embed="rId1"/>
          <a:stretch/>
        </p:blipFill>
        <p:spPr>
          <a:xfrm>
            <a:off x="181080" y="757080"/>
            <a:ext cx="8781840" cy="57517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2"/>
          <a:stretch/>
        </p:blipFill>
        <p:spPr>
          <a:xfrm>
            <a:off x="6877080" y="2679840"/>
            <a:ext cx="2016000" cy="4078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3"/>
          <a:stretch/>
        </p:blipFill>
        <p:spPr>
          <a:xfrm>
            <a:off x="3203640" y="3127320"/>
            <a:ext cx="2016000" cy="4078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4"/>
          <a:stretch/>
        </p:blipFill>
        <p:spPr>
          <a:xfrm>
            <a:off x="4067280" y="3616200"/>
            <a:ext cx="1873080" cy="4082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5"/>
          <a:stretch/>
        </p:blipFill>
        <p:spPr>
          <a:xfrm>
            <a:off x="4932360" y="4106880"/>
            <a:ext cx="1873080" cy="4078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6"/>
          <a:stretch/>
        </p:blipFill>
        <p:spPr>
          <a:xfrm>
            <a:off x="900000" y="4581360"/>
            <a:ext cx="1440000" cy="4082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7"/>
          <a:stretch/>
        </p:blipFill>
        <p:spPr>
          <a:xfrm>
            <a:off x="5364000" y="4567320"/>
            <a:ext cx="1440000" cy="40788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8"/>
          <a:stretch/>
        </p:blipFill>
        <p:spPr>
          <a:xfrm>
            <a:off x="3924360" y="5070600"/>
            <a:ext cx="14396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图片 1" descr=""/>
          <p:cNvPicPr/>
          <p:nvPr/>
        </p:nvPicPr>
        <p:blipFill>
          <a:blip r:embed="rId1"/>
          <a:stretch/>
        </p:blipFill>
        <p:spPr>
          <a:xfrm>
            <a:off x="185760" y="1928880"/>
            <a:ext cx="8771040" cy="30002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2"/>
          <a:stretch/>
        </p:blipFill>
        <p:spPr>
          <a:xfrm>
            <a:off x="6588000" y="1873080"/>
            <a:ext cx="1513080" cy="4082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3"/>
          <a:stretch/>
        </p:blipFill>
        <p:spPr>
          <a:xfrm>
            <a:off x="3059280" y="2349360"/>
            <a:ext cx="1512720" cy="4082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4"/>
          <a:stretch/>
        </p:blipFill>
        <p:spPr>
          <a:xfrm>
            <a:off x="826920" y="2824200"/>
            <a:ext cx="1513080" cy="4078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5"/>
          <a:stretch/>
        </p:blipFill>
        <p:spPr>
          <a:xfrm>
            <a:off x="826920" y="3298680"/>
            <a:ext cx="15130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4200" y="762120"/>
            <a:ext cx="8713800" cy="5333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503280" cy="4082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11280" y="4221000"/>
            <a:ext cx="503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237960" y="1533600"/>
            <a:ext cx="8668080" cy="37908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503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19240" y="1019160"/>
            <a:ext cx="8705520" cy="4819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7164360" y="1527120"/>
            <a:ext cx="15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1511280" cy="4082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356000" y="3459240"/>
            <a:ext cx="15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4643280" y="3948120"/>
            <a:ext cx="15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419640" y="4897440"/>
            <a:ext cx="2160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41200" y="538200"/>
            <a:ext cx="8771040" cy="62672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755640" y="1514520"/>
            <a:ext cx="1584360" cy="407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3492360" y="1528920"/>
            <a:ext cx="1584360" cy="4078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4140360" y="2492280"/>
            <a:ext cx="2952720" cy="408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4392720" cy="4082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5724360" y="4883040"/>
            <a:ext cx="1584360" cy="4082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755640" y="5359320"/>
            <a:ext cx="863640" cy="4082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1547640" y="6323040"/>
            <a:ext cx="3529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00160" y="776160"/>
            <a:ext cx="8743680" cy="379908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209520" y="4662360"/>
            <a:ext cx="87343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47600" y="907920"/>
            <a:ext cx="8847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71360" y="833400"/>
            <a:ext cx="88012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00160" y="2224080"/>
            <a:ext cx="8743680" cy="24098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900000" y="2233440"/>
            <a:ext cx="3816360" cy="4082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5580000" y="2247840"/>
            <a:ext cx="3168720" cy="4078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971640" y="2722680"/>
            <a:ext cx="3384360" cy="407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5435640" y="2722680"/>
            <a:ext cx="1873080" cy="4078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826920" y="3213000"/>
            <a:ext cx="1081080" cy="4082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2521080" cy="4082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6300720" y="3227400"/>
            <a:ext cx="2521080" cy="4078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755640" y="3701880"/>
            <a:ext cx="3240000" cy="4082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0"/>
          <a:stretch/>
        </p:blipFill>
        <p:spPr>
          <a:xfrm>
            <a:off x="5003640" y="3701880"/>
            <a:ext cx="3313440" cy="4082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1"/>
          <a:stretch/>
        </p:blipFill>
        <p:spPr>
          <a:xfrm>
            <a:off x="971640" y="4178160"/>
            <a:ext cx="33130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5:4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